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95D-5140-44A7-B158-370F4010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2CB-B053-45DA-977C-750F68FE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811-AA0D-4323-9B4B-0B6BEDF9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373-2403-4EC7-8AEF-6797EC574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17A5-1068-4B4C-A157-6E3C4EA2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69B4-037D-4A90-B2F6-2C6A1321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A2FF-C954-4D6F-972C-7DF44BAB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1DF6-C994-4261-9E25-F8B38988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A8A2-CCE0-4FCE-A8D5-BC25A783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20AA-991F-4B08-BF5F-015AE8A3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816E-EC70-43EE-9974-73BFC22C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E1B7-4E5A-4288-908F-4A2E3D8B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7A53-CAC2-4960-9B0B-1872C348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6393-4594-437E-A084-6BB37535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1C22-7F16-4D96-AACC-B78A10AF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8535-7CE6-4A54-80B9-18D66433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9D34-EEF1-4649-8741-A8CD5781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28C-225C-4F92-AE80-A389A978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39D-76AA-4EAC-B3C1-C74D7113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ADE-3189-4408-9E69-8304E846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C37-B8DF-43C0-A2A8-7D3C2347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F8B-98F1-4B5E-AC3F-9B75E996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342-2587-4EA4-8331-9DD0B102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A93-ACF5-4373-A457-3E85A032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6307-7EC0-4831-828F-E1E257DC6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FCA1-8A6E-44CE-A869-486040EC3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81800" y="6172200"/>
            <a:ext cx="250992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1337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into computers/storabl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ators (P.I.s, students, occasional bioinformat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l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pers, few people, £/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ise of th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133720"/>
            <a:ext cx="7467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 by keyword/gene/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/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curation (SVM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600200"/>
            <a:ext cx="3886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pr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's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 Light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24280" y="1676520"/>
            <a:ext cx="3886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 Light"/>
              </a:rPr>
              <a:t>Literature Curation in GM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673280" cy="1752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1752480"/>
            <a:ext cx="7162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/community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ty Assessment of Community Annotation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23:02:47Z</dcterms:created>
  <dc:creator>Daniel Renfro</dc:creator>
  <dc:description/>
  <dc:language>en-US</dc:language>
  <cp:lastModifiedBy>GMOD / NESCent</cp:lastModifiedBy>
  <cp:lastPrinted>2010-09-24T17:48:19Z</cp:lastPrinted>
  <dcterms:modified xsi:type="dcterms:W3CDTF">2010-09-24T17:48:34Z</dcterms:modified>
  <cp:revision>10</cp:revision>
  <dc:subject/>
  <dc:title>Publications &amp; GMOD</dc:title>
</cp:coreProperties>
</file>